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419CA-FA4A-4490-9FB4-520902429D5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4B54-0B18-4A74-9344-73D3B0AE8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54FD-C52F-43F1-B0F9-739D83D9C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7076-9C90-47AD-8CED-FBE22CA99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48F6-3304-495A-8CA0-23697C541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A2F5-3C83-49B5-B96C-C3F10F4AA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359F-7B60-4931-A883-0CB842C32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DBF8-31E3-4DAD-B959-6C15C74D0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4F82-4039-4F77-B361-2892705AE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EADA-86B6-4390-881C-18B75F343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57C5-93F1-413C-8922-6C47B3746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6CD7-3347-40C5-B9D5-C7E78D3D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766C-6729-40FB-80F0-154493F38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4F068-B3F3-4567-9243-5790C26A53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MP00640_" descr=""/>
          <p:cNvPicPr/>
          <p:nvPr/>
        </p:nvPicPr>
        <p:blipFill>
          <a:blip r:embed="rId1"/>
          <a:stretch/>
        </p:blipFill>
        <p:spPr>
          <a:xfrm>
            <a:off x="1905120" y="2590920"/>
            <a:ext cx="3483000" cy="34686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1523880" y="533520"/>
            <a:ext cx="33782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la Globalizzazione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50000">
              <a:srgbClr val="3399ff"/>
            </a:gs>
            <a:gs pos="100000">
              <a:srgbClr val="00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581280" y="2057400"/>
            <a:ext cx="3581640" cy="990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Monotype Corsiva"/>
              </a:rPr>
              <a:t>Globalizzazi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066680"/>
            <a:ext cx="3352680" cy="1371600"/>
          </a:xfrm>
          <a:prstGeom prst="rightArrow">
            <a:avLst>
              <a:gd name="adj1" fmla="val 50000"/>
              <a:gd name="adj2" fmla="val 61109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Miglioramento dei mezzi di traspor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2666880"/>
            <a:ext cx="3429000" cy="1447920"/>
          </a:xfrm>
          <a:prstGeom prst="rightArrow">
            <a:avLst>
              <a:gd name="adj1" fmla="val 50000"/>
              <a:gd name="adj2" fmla="val 59206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Miglioramento dei mezzi di comunic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4572000"/>
            <a:ext cx="167652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Stili di vi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più simi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362320" y="2971800"/>
            <a:ext cx="175248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943600" y="3048120"/>
            <a:ext cx="5335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4120" y="29718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638680" y="129492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91120" y="4952880"/>
            <a:ext cx="1752480" cy="1295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Libera circolazio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di mer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705720" y="3048120"/>
            <a:ext cx="190476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Libera circolazio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di pers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77120" y="228600"/>
            <a:ext cx="2286000" cy="1295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Riduzione delle distan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162920" y="4952880"/>
            <a:ext cx="759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934320" y="4952880"/>
            <a:ext cx="2057400" cy="990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Monotype Corsiva"/>
              </a:rPr>
              <a:t>Immigrazione  e citt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Monotype Corsiva"/>
              </a:rPr>
              <a:t>Multietni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772400" y="4191120"/>
            <a:ext cx="1522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7T08:39:36Z</dcterms:created>
  <dc:creator>studente</dc:creator>
  <dc:description/>
  <dc:language>en-US</dc:language>
  <cp:lastModifiedBy>studente</cp:lastModifiedBy>
  <dcterms:modified xsi:type="dcterms:W3CDTF">2017-01-09T09:58:13Z</dcterms:modified>
  <cp:revision>9</cp:revision>
  <dc:subject/>
  <dc:title>Presentazione di PowerPoint</dc:title>
</cp:coreProperties>
</file>